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9EA-4A07-4C41-81B2-2C7615CE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798-CFB6-4C91-99B5-C9EC6E2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6A5-9E23-4A97-B9A3-5122724C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8F0-9400-43AF-8A66-F8487D2C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2193-CAC0-4372-8122-6F4D54D2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7C28-7AA6-409A-8B6F-0723B2F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DD9-1551-42A6-A964-A540C76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7A80-0B8D-4BFE-9C09-4987C31A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6161-2085-47F8-B0AE-DF6A887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571-A4B4-4038-9793-30FF368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F175-A7F4-4757-993E-EEFCB0E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77E-61AE-4E66-BD00-8F6E697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B225-B1E6-4542-9ED0-94A5FD7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370-8645-45DD-82C3-D5EFA91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F69-1D94-4FF4-B6B2-5AC4C1D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BF27-2FD0-43B3-B8B2-32182024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4E2-1A0F-4AEC-AB80-7771E09B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D0F-C0F8-42D5-8CC4-7A18008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D32-1CA9-44E3-AE10-109555A1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9E0-12C3-443E-A1EB-B2A8C563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F77-6C73-443D-B69B-B74E258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B3F-7B4E-45B8-8CFA-2035369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8DE-BAB5-47AC-9DBD-BEAAEC6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B01-7578-4AF9-BC0C-A828757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DC7-ECDF-4CCF-A7A0-6547679A13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981-AD3C-4A31-9F1C-C901C50402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anadiantire.ca/intro/homepage.jsp;jsessionid=BItXJDwMF41ohgfqtjb4cFYaJoxlrlp3r9irIsU1TYEye69cEMuQ!1806054921!172915536!7205!7305?bmLocale=en&amp;bmUID=1095249303954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Linking Marketing to Corporate Strategies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Chapter 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aeaea"/>
                </a:solidFill>
                <a:latin typeface="Verdana"/>
              </a:rPr>
              <a:t>Strategic Marketing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Marke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 process directed at the product and market levels so as to allocate resources to viable marketing opportunit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cludes Planning, Implementation and Contro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is process yields a  MARKETING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ey Questions to ask at the Strategic Marketing level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 are we now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re do we want to g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we allocate resources to get to where we want to g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we convert our plans into action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our results compare with our plans, and do deviations require new plans of ac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1 &amp; 2  A Situational Analysis &amp; SWO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sks: What is the current situation with the market or the product?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re are many internal and external sources from which to draw this inform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SWOT analysis is a key tool to determining the answer to: What is the current situation with the market or the product?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 Strategic planning tool used to detect key opportunit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nalysis of ke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ternal Strengths (Within the orgs. contro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ternal Weaknesses (Within the orgs. contro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xternal Opportunities (Can be acted upon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External Threats ( Things to be watched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From the SWOT process plans can be made to build on/improve strengths, detect and fix weaknesses, seize opportunity, and be aware of potential threa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38080" y="1828800"/>
            <a:ext cx="7620120" cy="4191120"/>
            <a:chOff x="838080" y="1828800"/>
            <a:chExt cx="7620120" cy="4191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2411" t="25232" r="12962" b="29364"/>
            <a:stretch/>
          </p:blipFill>
          <p:spPr>
            <a:xfrm>
              <a:off x="838080" y="1828800"/>
              <a:ext cx="76201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838080" y="1828800"/>
              <a:ext cx="76201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6114" t="37006" r="16666" b="24318"/>
          <a:stretch/>
        </p:blipFill>
        <p:spPr>
          <a:xfrm>
            <a:off x="914400" y="1905120"/>
            <a:ext cx="7315200" cy="329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71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ant to read more about SWOT? Click he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3 Set Marketing Objec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Marketing objectives must be clear, attainable and measurable targe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objectives centre around Sales, Market Share and Customer satisfac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4 Develop a Strategy to achieve the marketing objecti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strategies  centre around reducing cost or increasing revenu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ypical Marketing strategies in order to increase reven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roduct Development: Develop a new product for an existing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arket Development: Enter a new market with an existing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arket Penetration:  Sell more of a current product to your existing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iversification: Sell a new product to a new marke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5 Adjust the Marketing Mix to suit the Strateg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Determine the best product, the best price, the best promotion and the best distribution methods to meet the objectiv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6 Set the Budg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Plan for the costs of implementing the strategy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7 Hire the right people for the job and assign their ro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y involves the planning and the execution of the plan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ic  planning is a process that plans for the Long-Te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rategic planning can take place at two level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The Corporate Level - Strategic Corporate Plan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62720" indent="-2124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The Product Level - Strategic Marketing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Key Steps in the Marketing Pl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8 Control the Strategy implementation and Evaluate the Strategies effectiveness in achieving the set objecti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metimes, especially if the time from situational analysis to planning to implementation is long there will be a gap created into what is sold versus what could have been sold if the required changes (implementation) could have been made sooner.  This situation is known as the Planning Ga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eps taken at the corporate (top) level to develop long-run approaches to corporate survival and growth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tep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1. Define the corporate </a:t>
            </a: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Miss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-- What is it we do, to whom to we do it, How we do it and why we do i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2. Set specific and measurable Goals &amp; </a:t>
            </a:r>
            <a:r>
              <a:rPr b="1" lang="en-GB" sz="2800" spc="-1" strike="noStrike">
                <a:solidFill>
                  <a:srgbClr val="eaeaea"/>
                </a:solidFill>
                <a:latin typeface="Verdana"/>
              </a:rPr>
              <a:t>Objective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, or targets to be met my the organiz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se objectives may include such things as Survival, Profit, Market Share, Social Responsibility, Shareholder value, Customer Valu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1 - Where are we n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are our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ustom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at do we do well (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enci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at do we do better than anybody else? (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itive Advantag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are our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mpetito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2 - Where do we want to go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ston Consulting Group Matri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37739" t="22012" r="18867" b="25156"/>
          <a:stretch/>
        </p:blipFill>
        <p:spPr>
          <a:xfrm>
            <a:off x="2438280" y="281952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#2 - Where do we want to go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rket-Product Gr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25156" r="58491" b="22012"/>
          <a:stretch/>
        </p:blipFill>
        <p:spPr>
          <a:xfrm>
            <a:off x="1600200" y="3048120"/>
            <a:ext cx="68580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Strategic Corporate Plann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ize Organizational Opportuni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Key opportunities exist in fields where the organization is better than its competitors - so called Distinctive Competenci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 organization should attempt to seize opportunities in areas that not only is it better than its competitors in, but in areas where they will/can retain their advantage - so called Sustainable Competitive Advant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15:43:26Z</dcterms:created>
  <dc:creator>Debbie Vincent</dc:creator>
  <dc:description/>
  <dc:language>en-US</dc:language>
  <cp:lastModifiedBy>Paul Tilley</cp:lastModifiedBy>
  <dcterms:modified xsi:type="dcterms:W3CDTF">2004-09-15T12:36:42Z</dcterms:modified>
  <cp:revision>5</cp:revision>
  <dc:subject/>
  <dc:title>Marketing in the Organization: An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